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6F2EF-E49F-41C4-ADD9-7F2294C8F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B608B-0192-4B3B-9A0B-09A5B6537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97F16-9A04-430A-9269-8033B056B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9A9CD-854E-4895-9275-A70A4F828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30C687-4E85-4E1E-B29B-B87357389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9B4AEB6-518F-410D-B144-CC152BBD2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736D14C-AE9A-4AB9-A926-CBB1BF0AA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6F0E99-2C1D-4623-82EA-290826836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18E9B7-7E44-4FAA-9B4B-B32393CDE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8849D5E-B398-46F6-9AF0-630EFC872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ECA134-5238-49B6-9D8F-F8393A33F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FAD8E-C2AE-4F10-A382-8CADD0D0B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561A9D-25AD-44B1-B44E-F34445FCC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151F29-6D74-443D-A4DF-F5D733821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4312059-C640-48E4-ABEF-FAD18253F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30D2EE9-BF08-4DAC-A4FB-E0F82CA41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762571A-0C18-4779-9E16-A1A4933D3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13E5B-F9E2-44F9-9266-6ADA1C2AE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AF59F-8896-4332-AF25-307029F64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5E3D7-4534-46B4-BF23-A36A24C9B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BEB87-2E9E-4425-9500-A95656F4F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5B26-43F5-4A50-B46D-6E1F63E0F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274CA-BA05-451A-96F2-2C23E2A00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FC8C0-78BD-462E-95A7-C7F099B94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D6B7-5FDE-4F32-8C81-5B575547D1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EBA0-EB6F-4C45-A183-6F984A9370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Joshuah Perek 16 &amp; 17</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r>
              <a:rPr b="0" lang="en-US" sz="3200" spc="-1" strike="noStrike">
                <a:solidFill>
                  <a:srgbClr val="ffffff"/>
                </a:solidFill>
                <a:latin typeface="Arial"/>
              </a:rPr>
              <a:t>Liat Bainvoll</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Titles and themes:</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Aportionment and Conquest:</a:t>
            </a:r>
            <a:r>
              <a:rPr b="0" lang="en-US" sz="3200" spc="-1" strike="noStrike">
                <a:solidFill>
                  <a:srgbClr val="ffffff"/>
                </a:solidFill>
                <a:latin typeface="Arial"/>
              </a:rPr>
              <a:t> chapter 17 verse 1-13- apportion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plaining Jews!</a:t>
            </a:r>
            <a:r>
              <a:rPr b="0" lang="en-US" sz="3200" spc="-1" strike="noStrike">
                <a:solidFill>
                  <a:srgbClr val="ffffff"/>
                </a:solidFill>
                <a:latin typeface="Arial"/>
              </a:rPr>
              <a:t>: Chapter 14-end and Chapter 18 verses1-3-apportionm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ots of Lots!</a:t>
            </a:r>
            <a:r>
              <a:rPr b="0" lang="en-US" sz="3200" spc="-1" strike="noStrike">
                <a:solidFill>
                  <a:srgbClr val="ffffff"/>
                </a:solidFill>
                <a:latin typeface="Arial"/>
              </a:rPr>
              <a:t>: Chapter 18 verses 4-end- apporti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Relationship with today:</a:t>
            </a:r>
            <a:br>
              <a:rPr sz="4000"/>
            </a:b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adays, as appose to the tribes wanting land in Israel, all of our Arab nations want land.  It differs in the motivation for the people wanting land because the tribes just want to live in the holy land of Israel whereas the Arabs just want to destroy Isr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cab:</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s- gora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ion- Mateh</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ose- horeesh</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ortionment- nachalah</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ley- emek</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ssembled- vayekaha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 vayeshuvu</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rder- gvu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control- nechbesha</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tetzota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mentary (extra credit)</a:t>
            </a:r>
            <a:endParaRPr b="0" lang="en-US" sz="4400" spc="-1" strike="noStrike">
              <a:solidFill>
                <a:srgbClr val="e3e3ff"/>
              </a:solidFill>
              <a:latin typeface="Arial"/>
            </a:endParaRPr>
          </a:p>
        </p:txBody>
      </p:sp>
      <p:sp>
        <p:nvSpPr>
          <p:cNvPr id="13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sseh’s Complaint and Joshua’s respons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only the people of Manasseh had a grievance, they were joined by their brother-tribe , Ephraim(Ramban).  That the complaint applied only to Manasseh is clear because Beth Shean was in the province of Manasseh, and it was Manasseh, not Ephraim, that could have had a grievance, because Manasseh’s population had grown very much, while Ephraim’s had remained stable(Rada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e3ff"/>
                </a:solidFill>
                <a:latin typeface="Arial"/>
              </a:rPr>
              <a:t>Map of the apportionments of ancient Israel</a:t>
            </a:r>
            <a:endParaRPr b="0" lang="en-US" sz="1800" spc="-1" strike="noStrike">
              <a:solidFill>
                <a:srgbClr val="e3e3ff"/>
              </a:solidFill>
              <a:latin typeface="Arial"/>
            </a:endParaRPr>
          </a:p>
        </p:txBody>
      </p:sp>
      <p:pic>
        <p:nvPicPr>
          <p:cNvPr id="133" name="il_fi" descr=""/>
          <p:cNvPicPr/>
          <p:nvPr/>
        </p:nvPicPr>
        <p:blipFill>
          <a:blip r:embed="rId1"/>
          <a:stretch/>
        </p:blipFill>
        <p:spPr>
          <a:xfrm>
            <a:off x="1828800" y="685800"/>
            <a:ext cx="561960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58840"/>
            <a:ext cx="74674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  </a:t>
            </a:r>
            <a:endParaRPr b="0" lang="en-US" sz="4000" spc="-1" strike="noStrike">
              <a:solidFill>
                <a:srgbClr val="e3e3ff"/>
              </a:solidFill>
              <a:latin typeface="Arial"/>
            </a:endParaRPr>
          </a:p>
        </p:txBody>
      </p:sp>
      <p:pic>
        <p:nvPicPr>
          <p:cNvPr id="135" name="" descr=""/>
          <p:cNvPicPr/>
          <p:nvPr/>
        </p:nvPicPr>
        <p:blipFill>
          <a:blip r:embed="rId1"/>
          <a:stretch/>
        </p:blipFill>
        <p:spPr>
          <a:xfrm>
            <a:off x="380880" y="838080"/>
            <a:ext cx="8153640" cy="5162760"/>
          </a:xfrm>
          <a:prstGeom prst="rect">
            <a:avLst/>
          </a:prstGeom>
          <a:ln w="0">
            <a:noFill/>
          </a:ln>
        </p:spPr>
      </p:pic>
      <p:sp>
        <p:nvSpPr>
          <p:cNvPr id="136" name=""/>
          <p:cNvSpPr/>
          <p:nvPr/>
        </p:nvSpPr>
        <p:spPr>
          <a:xfrm>
            <a:off x="533520" y="2286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ribes gather at Shiloh and complain that they have not been given enough or any land.  They will later meet here to draw lo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urnal</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urnal( Said by one of the surveyors of the tribe of Shim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urveyed the land and this is what I foun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nt the land in the North next to Judah, the one with the many oak trees and with the kineret near by.  If not there I would like the land in the valley next to Jericho.  If I lose that lo my last choice would be for my trib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6:08:50Z</dcterms:created>
  <dc:creator>Effi</dc:creator>
  <dc:description/>
  <dc:language>en-US</dc:language>
  <cp:lastModifiedBy>Effi</cp:lastModifiedBy>
  <dcterms:modified xsi:type="dcterms:W3CDTF">2010-12-22T03:54:14Z</dcterms:modified>
  <cp:revision>3</cp:revision>
  <dc:subject/>
  <dc:title>Joshuah Perek 16 &amp; 17</dc:title>
</cp:coreProperties>
</file>